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833-8994-4FB2-9316-CD083213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0ED-7B5B-4FB0-A8DC-AC0B80BF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CAA-A9F1-45E6-9F47-35AA48C7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9A3-C168-4CF4-A61C-655E4236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9D3-7A53-4068-8B84-D044B412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C15-C888-4F7E-8896-A6D4C770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291-D8D7-4BA1-ABE9-5B262C45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5FE-0CC9-4175-8C4C-0FF0C9EA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E68-1E6C-4653-91A2-B8385C39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919-1AF4-41CA-8C42-5125D65D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A13-3583-4C77-AD3F-D6EEE3AC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FDF-4A61-40B3-B293-A054B512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0246-57C2-42D2-B40F-18BBB11D1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 .G.  FLEMING                                      J.  G.  FLEMING                                 J. G.  FLEMING                                    INCHINNAN                                        INCHINAN                                     INKER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KERMAN                                               INKERMAN                             INKERMAN  100TH                             INKERMAN  125TH                      JOHNSTONE  MUNICIPAL                JOHNST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STONE                                          JOHNSTONE                                        KILBARCHAN                                   KILBARCHAN                                     LILLYBANK                       LILLYBAN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WOOD                                            LINWOOD  100TH                   LOCHFIELD  JUNIORS  PUBLIC              LOCHFIELD  JUNIORS                LOCHFIELD  JUNIORS  25TH           LOCHWINNO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0520" y="213372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16160" y="198900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7600" y="1989000"/>
            <a:ext cx="1243080" cy="112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13240" y="1628640"/>
            <a:ext cx="1206720" cy="1508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969240" y="213372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8337600" y="2133720"/>
            <a:ext cx="1023840" cy="103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0524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3500280"/>
            <a:ext cx="1261800" cy="120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289240" y="371628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800520" y="357336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457960" y="3573360"/>
            <a:ext cx="98712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040520" y="3789360"/>
            <a:ext cx="95112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8265960" y="3357720"/>
            <a:ext cx="1225800" cy="1339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776160" y="5877000"/>
            <a:ext cx="586080" cy="622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360520" y="5445000"/>
            <a:ext cx="951120" cy="1024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3873600" y="544500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384880" y="5229360"/>
            <a:ext cx="1243080" cy="123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7184880" y="5661000"/>
            <a:ext cx="83196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408880" y="522936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8337600" y="620640"/>
            <a:ext cx="969840" cy="851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897600" y="47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5313240" y="47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3800520" y="47628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2289240" y="549360"/>
            <a:ext cx="987480" cy="92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631800" y="404640"/>
            <a:ext cx="10238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20:45:34Z</dcterms:created>
  <dc:creator>JOHN YOUNG</dc:creator>
  <dc:description/>
  <dc:language>en-US</dc:language>
  <cp:lastModifiedBy>JY</cp:lastModifiedBy>
  <dcterms:modified xsi:type="dcterms:W3CDTF">2008-01-01T19:16:45Z</dcterms:modified>
  <cp:revision>40</cp:revision>
  <dc:subject/>
  <dc:title>No Slide Title</dc:title>
</cp:coreProperties>
</file>